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D1B1-1AB4-420F-A8BC-47B37AA0EE83}" type="slidenum">
              <a:rPr b="0" lang="sr-Latn-C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7E8B-BCFD-4B01-B0B4-4872CA8399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C82-D1AC-45E8-8F2F-FD6642172C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1B2-1619-4A85-97BA-2FE5F33A16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A695-9885-4B38-AEB7-663633E341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355-6687-4F9A-8EC9-A53F6B4AB7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61A0-48C7-4FF2-BFBA-049457A1EE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AE8D-E56B-4FC0-9BDA-854E1C1B36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B1A7-881C-47FA-A01E-1689885090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1D86-4738-4DFE-8921-65A1994314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8139-8635-4B6E-AFC3-6CCAC934D4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3714-7EEE-45C7-8342-560003E95C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55CD-4443-45A6-85E3-5410BE2F9BA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5B39-714F-4375-B4EC-E25E83CA48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333C-B6AB-4E56-9FE1-6FAB1148B0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5A02-E91D-4BB6-91B5-33B672788A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F3B7-530F-418B-A4C0-7934105ECE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921E-8990-4B2A-AB9C-2D1F1C2C23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579-3E65-4C22-83A5-D0476EE83E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B182-8C89-48CD-80C4-304E8350D8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4F63-B6E3-474E-AE93-2E9A496D56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8A16-EB26-468C-8728-F2CCF83256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46B0-10EC-4E97-96EC-DE60771E4B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60D4-A974-4171-9ECD-EEADD88C40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8795-38A2-4F5A-9A60-E504FC3930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05F3-CFB5-4528-A465-1367D54FBF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30E9-4EFB-4765-8BE3-751B70CF18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5006-031D-4FEF-B19F-D7FE14E3AF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393-4F2F-47B9-AE74-5090ABBAE2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C061-00F4-450C-9373-279C02D66E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97C-BB29-491C-B127-91B1126F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4FF-370C-4AB2-9F92-2B9E6688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337-BED6-4B5F-9548-E8BC8E6C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839-4936-4BA5-B743-7B03AE6C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423C-0CFA-49D8-8E10-A9C34C35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3A3-316E-4C0B-94C8-1DB7B1A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228-150C-45FF-AA40-C40819F8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F91E-5D22-4943-B106-F70B3B9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819E-0577-4643-87A8-719AA92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599-36C5-4C46-9D56-2D391A97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3AAC-A96C-49EE-9191-18D6B1A6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D7A-DBE3-435C-A0FE-297301A6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AA38-B268-4438-9132-DAFB2FC0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5F1D-4235-4C50-95A2-99C2DC9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136B-AF91-4E21-ACA7-BB977F0D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3F05-8C49-4CD6-87F3-A8B8F353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6380-48F4-4973-BFD8-FFE89EE5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C128-8C69-4135-ADAE-2BEA9016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4B87-64BB-4D07-915F-ED5D0FA9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28E7-3BD8-4346-89F9-3503A3C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050D-AE39-4247-B243-CBFEB826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CAC9-88E5-4135-B9E9-73FBF4B3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410-5D93-4265-8336-5EC9D1A1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B485-1356-4176-951F-A05FD07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7AC6-39AB-44AB-9911-CB73A65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C308-A904-41EE-AA2F-52CF4A4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6825-7CB1-44F6-A220-E289954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1946-169E-4064-B288-CBA7D7E9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AFA0-3B8B-461A-93F3-F8A21218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3AE5-2D62-42DD-8011-7909D213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150D-17A2-431B-BEC6-FE5B257A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BE5B-EFD5-495F-AC83-CA26A81A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6CF1-8868-4EEF-B0CE-C10FF57F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03B-5447-495A-B70D-D8C4D666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33CE-0787-4B2C-881D-081DC44D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D608-8C4B-4E6D-9B64-2E5D7280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038C-4666-4153-9C8A-F7DA3494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92CE-7F00-4F42-A6FB-DE0528A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5E71-EE38-4B0C-BE37-8DC853D0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DF7D-3345-44A3-856A-F1E39A8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F147-2E17-4336-8E99-FBE06068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3A030-D999-4FA1-BA22-36FE5DDA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8D748-EB21-466D-9625-B9196ACF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70F4-AE23-4814-8E07-EFA1863F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B1F-8682-4403-86FF-45911D5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C73E-F8C9-49A4-B705-28FD36C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838C-C1CA-4FC3-A953-BEDE5EF4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2050-CC15-41F1-9981-7C4E173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1908-13D3-4E30-A8BE-F7BA2A7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2F11-83D7-4A1E-BCAE-0597F769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AA27-701B-493F-B4F6-3D67401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5984-1B60-4737-BFD9-8D425C7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490B-ED4C-4D1F-B5A3-E9E74A3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E065-960A-45DA-8F52-05FD76DF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E950-4C29-44B0-8509-113A842F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301-AF90-4F33-8342-DAB10926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DCA2-7460-492D-94DE-E1702060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A72-FE7D-4E82-A41C-DBF4FFA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FBE-A749-4129-9270-655119F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FB3-FC94-4508-A98B-219EC8C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1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1028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2dffb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2dffb1"/>
              </a:buClr>
              <a:buSzPct val="112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938e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E9DE-8FAF-4942-B16D-2880DE12190B}" type="slidenum">
              <a:rPr b="0" lang="sr-Latn-CS" sz="1000" spc="-1" strike="noStrike">
                <a:solidFill>
                  <a:srgbClr val="938e99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1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2052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056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2dffb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2dffb1"/>
              </a:buClr>
              <a:buSzPct val="112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938e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13E1-C67E-4D82-AA9D-8C0DA2C1DE58}" type="slidenum">
              <a:rPr b="0" lang="sr-Latn-CS" sz="1000" spc="-1" strike="noStrike">
                <a:solidFill>
                  <a:srgbClr val="938e99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1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3076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2760"/>
            <a:chOff x="414360" y="426960"/>
            <a:chExt cx="8315280" cy="43527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080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2dffb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2dffb1"/>
              </a:buClr>
              <a:buSzPct val="112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938e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5CC-6294-4C57-8FA3-8CEC3820344A}" type="slidenum">
              <a:rPr b="0" lang="sr-Latn-CS" sz="1000" spc="-1" strike="noStrike">
                <a:solidFill>
                  <a:srgbClr val="938e99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1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512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2dffb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2dffb1"/>
              </a:buClr>
              <a:buSzPct val="112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938e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6CC5-AB41-41D9-9419-1712EC851938}" type="slidenum">
              <a:rPr b="0" lang="sr-Latn-CS" sz="1000" spc="-1" strike="noStrike">
                <a:solidFill>
                  <a:srgbClr val="938e99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EAB9-469B-4B1A-A7DC-6232096DA28F}" type="slidenum">
              <a:rPr b="0" lang="sr-Latn-CS" sz="14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24.png"/><Relationship Id="rId4" Type="http://schemas.openxmlformats.org/officeDocument/2006/relationships/image" Target="../media/image20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55640" y="1198080"/>
            <a:ext cx="6858000" cy="709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br>
              <a:rPr sz="2100"/>
            </a:b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06440" y="2825280"/>
            <a:ext cx="6618240" cy="6462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29be6"/>
                </a:solidFill>
                <a:latin typeface="Arial"/>
              </a:rPr>
              <a:t>КЛАСА ПРЕМОЛ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29be6"/>
                </a:solidFill>
                <a:latin typeface="Arial"/>
              </a:rPr>
              <a:t>(ПРЕМОЛАРИ ГОРЊЕГ ДЕНТАЛНОГ ЛУ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46160" y="1027080"/>
            <a:ext cx="14284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440" y="228600"/>
            <a:ext cx="62341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ПАЛАТИНАЛНИ АСПЕКТ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Лингвална површина је мања од букалне и са ње се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види скоро цео букални профил кру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Лингвална квржица је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нижа од букалне и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на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лази се н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средини круне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и ли нешто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мезијалн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БИКУСПАЛНА (трансверзална) СИМЕТРАЛА</a:t>
            </a:r>
            <a:br>
              <a:rPr sz="1600"/>
            </a:b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је линија која спаја врхове букалне и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лингвалне квржице, дели лингвалну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површину на две симетричне површине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(глатке и конвексне у свим правцима)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Лингвални к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в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р.гребен није јасно дефинис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Проксимални профили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: </a:t>
            </a:r>
            <a:br>
              <a:rPr sz="1600"/>
            </a:b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Б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лаго конвек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с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ни, краћи него букални. 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Мезијални квржичн гребен краћи и мањи оддисталн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Цервикална линиј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симетрично</a:t>
            </a:r>
            <a:r>
              <a:rPr b="1" lang="sr-R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конвекс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на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према апекс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Лингвална висина контуре налази се у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средњој трећини кру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8"/>
          <p:cNvSpPr txBox="1"/>
          <p:nvPr/>
        </p:nvSpPr>
        <p:spPr>
          <a:xfrm>
            <a:off x="4962600" y="37152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pic>
        <p:nvPicPr>
          <p:cNvPr id="294" name="Picture 7" descr=""/>
          <p:cNvPicPr/>
          <p:nvPr/>
        </p:nvPicPr>
        <p:blipFill>
          <a:blip r:embed="rId1"/>
          <a:srcRect l="52503" t="0" r="0" b="63935"/>
          <a:stretch/>
        </p:blipFill>
        <p:spPr>
          <a:xfrm>
            <a:off x="6300720" y="1917720"/>
            <a:ext cx="2467080" cy="24861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"/>
          <p:cNvSpPr/>
          <p:nvPr/>
        </p:nvSpPr>
        <p:spPr>
          <a:xfrm>
            <a:off x="6881760" y="19177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  <a:ea typeface="SimSun"/>
              </a:rPr>
              <a:t>горњи ле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228600"/>
            <a:ext cx="60721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МЕЗИЈАЛНИ АСП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–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трапез, дужа паралелна страна у цервикалном 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делу кру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1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Букални профил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конвексан у целости;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висина контуре у цервикалној трећини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, па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потом инклинира према лингвал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2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Лингвални профил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конвексан у целости;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висина контуре у средњем делу кру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3. 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Оклузални профил</a:t>
            </a:r>
            <a:br>
              <a:rPr sz="1600"/>
            </a:b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у даљој перспективи:</a:t>
            </a:r>
            <a:r>
              <a:rPr b="1" lang="sr-R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br>
              <a:rPr sz="1600"/>
            </a:br>
            <a:r>
              <a:rPr b="1" lang="sr-RS" sz="1600" spc="-1" strike="noStrike">
                <a:solidFill>
                  <a:srgbClr val="ffff00"/>
                </a:solidFill>
                <a:latin typeface="Arial"/>
                <a:ea typeface="SimSun"/>
              </a:rPr>
              <a:t>  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Б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укална и палатинална квржица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(нејаеднаке висине)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Триангуларни гребени инклинирају од врхова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квржица под нагобом од  45° према централном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делу унутрашњег о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кл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.поља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(УОП)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.  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стварни профил: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МЕЗИЈАЛНИ МАРГИНАЛНИ ГРЕБЕН маркира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централну фисуру, пресечен је мезиомаргиналном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браздом у виду усека – ПРЕЛ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4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Цервикална линија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неправилно</a:t>
            </a:r>
            <a:r>
              <a:rPr b="1" lang="sr-R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конвексна у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оклузалном смеру, у цервикалном делу апикална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екстензија глеђи у висини мале “V” еминен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8"/>
          <p:cNvSpPr txBox="1"/>
          <p:nvPr/>
        </p:nvSpPr>
        <p:spPr>
          <a:xfrm>
            <a:off x="5105520" y="22860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rcRect l="0" t="35146" r="49547" b="31872"/>
          <a:stretch/>
        </p:blipFill>
        <p:spPr>
          <a:xfrm>
            <a:off x="6154560" y="1917720"/>
            <a:ext cx="2622600" cy="22748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"/>
          <p:cNvSpPr/>
          <p:nvPr/>
        </p:nvSpPr>
        <p:spPr>
          <a:xfrm>
            <a:off x="6881760" y="19177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  <a:ea typeface="SimSun"/>
              </a:rPr>
              <a:t>горњи ле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44360" y="228600"/>
            <a:ext cx="60721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МЕЗИЈАЛНИ АСП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5. Оста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00"/>
                </a:solidFill>
                <a:latin typeface="Arial"/>
                <a:ea typeface="SimSun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цервикална 1/3 показује дубоку депресиј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тзв. мезијални конкавитет, који се пружа и ка корену у облику дубоке бразде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fissura interradicularis mesialis)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дели коренско стабло на букалну и лингвалну гр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мезиобукални и мезиолингвални квржични гребени, мезијално се стапају са мезијалним маргиналним гребеном и формирају теме букомезијалног и палатомезијалног уг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Унутрашње оклузално поље центрарано је преко коренског стабла (атрибут денталног лука; разлика горњих и доњих бочних зуб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обе коренске гране добро уочљиве; заједничко стабло од цервикалне линије до 2/3 стварне дужине кор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8"/>
          <p:cNvSpPr txBox="1"/>
          <p:nvPr/>
        </p:nvSpPr>
        <p:spPr>
          <a:xfrm>
            <a:off x="4859280" y="54936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rcRect l="0" t="35146" r="49547" b="31872"/>
          <a:stretch/>
        </p:blipFill>
        <p:spPr>
          <a:xfrm>
            <a:off x="6154560" y="1917720"/>
            <a:ext cx="2622600" cy="2274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"/>
          <p:cNvSpPr/>
          <p:nvPr/>
        </p:nvSpPr>
        <p:spPr>
          <a:xfrm>
            <a:off x="6881760" y="19177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  <a:ea typeface="SimSun"/>
              </a:rPr>
              <a:t>горњи ле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228600"/>
            <a:ext cx="51055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  <a:ea typeface="SimSu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ДИСТАЛНИ  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Разлике у односну на мезијалн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Унутрашње оклузално поље више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експонира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“Прелив”  н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Дистална интеррадикуларна бразда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слабије изра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ж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Дистобукални квржични гребен се стапа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са дисталним маргиналним гребеном у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јачем лу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Нема конкавитет у цервикалној трећи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1"/>
          <a:srcRect l="52640" t="35715" r="0" b="32665"/>
          <a:stretch/>
        </p:blipFill>
        <p:spPr>
          <a:xfrm>
            <a:off x="6012000" y="2276640"/>
            <a:ext cx="2460600" cy="2181240"/>
          </a:xfrm>
          <a:prstGeom prst="rect">
            <a:avLst/>
          </a:prstGeom>
          <a:ln w="0">
            <a:noFill/>
          </a:ln>
        </p:spPr>
      </p:pic>
      <p:sp>
        <p:nvSpPr>
          <p:cNvPr id="309" name="WordArt 8"/>
          <p:cNvSpPr txBox="1"/>
          <p:nvPr/>
        </p:nvSpPr>
        <p:spPr>
          <a:xfrm>
            <a:off x="4788000" y="62064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6592680" y="227664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  <a:ea typeface="SimSun"/>
              </a:rPr>
              <a:t>горњи ле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28600"/>
            <a:ext cx="87296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ОКЛУЗАЛНИ 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1.</a:t>
            </a:r>
            <a:r>
              <a:rPr b="1" lang="sr-Latn-CS" sz="1600" spc="-1" strike="noStrike">
                <a:solidFill>
                  <a:srgbClr val="1e63bd"/>
                </a:solidFill>
                <a:latin typeface="Arial"/>
                <a:ea typeface="SimSun"/>
              </a:rPr>
              <a:t> </a:t>
            </a:r>
            <a:r>
              <a:rPr b="1" i="1" lang="sr-Latn-CS" sz="1600" spc="-1" strike="noStrike" u="sng">
                <a:solidFill>
                  <a:srgbClr val="1e63bd"/>
                </a:solidFill>
                <a:uFillTx/>
                <a:latin typeface="Arial"/>
                <a:ea typeface="SimSun"/>
              </a:rPr>
              <a:t>СПОЉАШЊЕ ОКЛУЗАЛНО ПОЉЕ</a:t>
            </a:r>
            <a:br>
              <a:rPr sz="1600"/>
            </a:br>
            <a:r>
              <a:rPr b="1" lang="sr-Latn-CS" sz="1600" spc="-1" strike="noStrike">
                <a:solidFill>
                  <a:srgbClr val="1e63bd"/>
                </a:solidFill>
                <a:latin typeface="Arial"/>
                <a:ea typeface="SimSun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облика</a:t>
            </a: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шестоугаоник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а.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- границе су трасе лингвалног и букалног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профила, а мезијална и дистална су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контактне површине.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- Букални профил конвексан у цервикалном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смеру (бук. кврж добро развијена); висина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контуре оговара врху квржице.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- Лингвални профил симетрично конвексан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цервикално.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- Проксимални профи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су лингвално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конвергент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2. </a:t>
            </a:r>
            <a:r>
              <a:rPr b="1" i="1" lang="sr-Latn-CS" sz="1600" spc="-1" strike="noStrike" u="sng">
                <a:solidFill>
                  <a:srgbClr val="1e63bd"/>
                </a:solidFill>
                <a:uFillTx/>
                <a:latin typeface="Arial"/>
                <a:ea typeface="SimSun"/>
              </a:rPr>
              <a:t>УНИТРАШЊЕ ОКЛУЗАЛНО ПОЉЕ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облика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трапезоид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а.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- Границе УОП: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  - сагитални квржични гребен потпорне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   (Лингвалне) и водеће (Букалне) квржиц.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 - Оклузалне (слободне) ивице маргиналних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   гребена представљају проксималне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   гран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* Деобна линија јасно раздваја унутрашње и спољашње онклузално пољ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1"/>
          <a:srcRect l="0" t="66198" r="0" b="0"/>
          <a:stretch/>
        </p:blipFill>
        <p:spPr>
          <a:xfrm>
            <a:off x="4859280" y="2997360"/>
            <a:ext cx="4019760" cy="1803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14" name="WordArt 8"/>
          <p:cNvSpPr txBox="1"/>
          <p:nvPr/>
        </p:nvSpPr>
        <p:spPr>
          <a:xfrm>
            <a:off x="5105520" y="22860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440" y="228600"/>
            <a:ext cx="91551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ОКЛУЗАЛНИ 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000"/>
                </a:solidFill>
                <a:latin typeface="Arial"/>
                <a:ea typeface="SimSun"/>
              </a:rPr>
              <a:t>БУКАЛНА КВРЖИЦА</a:t>
            </a:r>
            <a:r>
              <a:rPr b="1" lang="sr-RS" sz="1600" spc="-1" strike="noStrike">
                <a:solidFill>
                  <a:srgbClr val="ffc000"/>
                </a:solidFill>
                <a:latin typeface="Arial"/>
                <a:ea typeface="SimSun"/>
              </a:rPr>
              <a:t> (Б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шира, виша и оштрија од П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изгледа као заротирана око своје вертикалне осовине, јер се букални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квржични гребен пружа од врха квржице у СОП оријентисан мезиолингвал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врх БК је ближе дистобуко-оклузалном углу (мезиобукални квржични гребен је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дуж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000"/>
                </a:solidFill>
                <a:latin typeface="Arial"/>
                <a:ea typeface="SimSun"/>
              </a:rPr>
              <a:t>ПАЛАТИНАЛНА КВРЖИЦА</a:t>
            </a:r>
            <a:r>
              <a:rPr b="1" lang="sr-RS" sz="1600" spc="-1" strike="noStrike">
                <a:solidFill>
                  <a:srgbClr val="ffc000"/>
                </a:solidFill>
                <a:latin typeface="Arial"/>
                <a:ea typeface="SimSun"/>
              </a:rPr>
              <a:t> (П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врх ПК је ближе мезиолингво-оклузалном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темену уг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00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sr-Latn-RS" sz="1600" spc="-1" strike="noStrike">
                <a:solidFill>
                  <a:srgbClr val="00ff00"/>
                </a:solidFill>
                <a:latin typeface="Arial"/>
                <a:ea typeface="SimSun"/>
              </a:rPr>
              <a:t>inversio ordine</a:t>
            </a:r>
            <a:r>
              <a:rPr b="1" lang="sr-RS" sz="1600" spc="-1" strike="noStrike">
                <a:solidFill>
                  <a:srgbClr val="00ff00"/>
                </a:solidFill>
                <a:latin typeface="Arial"/>
                <a:ea typeface="SimSun"/>
              </a:rPr>
              <a:t> -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мезиолингвални квржич.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гребен краћи од дистолингв. кврж. греб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унутрашњи триангуларни гребени пружају се ка УОП,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а суплементарне фисуре их раздвајају од падина проксималних  маргиналних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греб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ПРОКСИМАЛНИ ГРЕБЕН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формирају развијене плат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мезијални је краћи и у средњем делу прекинут мезиомаргиналном браздом (усе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rcRect l="0" t="66192" r="0" b="0"/>
          <a:stretch/>
        </p:blipFill>
        <p:spPr>
          <a:xfrm>
            <a:off x="4859280" y="2495520"/>
            <a:ext cx="4019760" cy="180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18" name="WordArt 8"/>
          <p:cNvSpPr txBox="1"/>
          <p:nvPr/>
        </p:nvSpPr>
        <p:spPr>
          <a:xfrm>
            <a:off x="5105520" y="22860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89080" y="228600"/>
            <a:ext cx="85708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ОКЛУЗАЛНИ 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000"/>
                </a:solidFill>
                <a:latin typeface="Arial"/>
                <a:ea typeface="SimSun"/>
              </a:rPr>
              <a:t>ЦЕНТРАЛНА РАЗВОЈНА БРАЗ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средишњи део УОП (мезиодистално пружањ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проксимално се улива у триангуларне ја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000"/>
                </a:solidFill>
                <a:latin typeface="Arial"/>
                <a:ea typeface="SimSun"/>
              </a:rPr>
              <a:t>ТРИАНГУЛАРНА </a:t>
            </a:r>
            <a:r>
              <a:rPr b="1" lang="sr-RS" sz="1600" spc="-1" strike="noStrike">
                <a:solidFill>
                  <a:srgbClr val="ffc000"/>
                </a:solidFill>
                <a:latin typeface="Arial"/>
                <a:ea typeface="SimSun"/>
              </a:rPr>
              <a:t>ЈАМА</a:t>
            </a:r>
            <a:r>
              <a:rPr b="1" lang="sr-Latn-CS" sz="1600" spc="-1" strike="noStrike">
                <a:solidFill>
                  <a:srgbClr val="ffc000"/>
                </a:solidFill>
                <a:latin typeface="Arial"/>
                <a:ea typeface="SimSu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1.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Јамица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SimSun"/>
              </a:rPr>
              <a:t>(fossula mesialis et distal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налази се у дубини јам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проксимални крај централне браз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2.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Букална бразда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SimSun"/>
              </a:rPr>
              <a:t>(fissura buccomesialis et</a:t>
            </a:r>
            <a:br>
              <a:rPr sz="1600"/>
            </a:b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distal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од сваке јамице иде букално према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 одговарајућем темену уг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3. </a:t>
            </a:r>
            <a:r>
              <a:rPr b="1" lang="sr-R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Лингвална бразда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SimSun"/>
              </a:rPr>
              <a:t>  (fissura linguomesialis et distal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од сваке јамице иде лингвално према одговарајућем темену уг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4.   Мезијална триангуларна јама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ДОПУНСКА МЕЗИОМАРГИНАЛНА ФИСУРА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која извире из фосуле и пружа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мезијално, пресеца маргинални гребен и улива се у мезијалну површину 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кру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1e63bd"/>
                </a:solidFill>
                <a:latin typeface="Arial"/>
                <a:ea typeface="SimSu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rcRect l="0" t="66192" r="0" b="0"/>
          <a:stretch/>
        </p:blipFill>
        <p:spPr>
          <a:xfrm>
            <a:off x="4859280" y="2279520"/>
            <a:ext cx="4019760" cy="180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22" name="WordArt 8"/>
          <p:cNvSpPr txBox="1"/>
          <p:nvPr/>
        </p:nvSpPr>
        <p:spPr>
          <a:xfrm>
            <a:off x="5105520" y="22860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71280" y="228600"/>
            <a:ext cx="51055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КОРЕ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Први горњи премор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има </a:t>
            </a: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ДВА</a:t>
            </a:r>
            <a:br>
              <a:rPr sz="1800"/>
            </a:b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КОРЕ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а као варијације три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 идентификациона ти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629be6"/>
                </a:solidFill>
                <a:latin typeface="Arial"/>
                <a:ea typeface="SimSun"/>
              </a:rPr>
              <a:t>- </a:t>
            </a: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КОРЕНСКО СТАБЛО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део корена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 између цервикалне линије и темена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 рачве. Оно на себи носи </a:t>
            </a: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ЛИНГВАЛНУ</a:t>
            </a:r>
            <a:br>
              <a:rPr sz="1800"/>
            </a:b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  и  БУКАЛНУ ГРАНУ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(бифуркација на</a:t>
            </a:r>
            <a:br>
              <a:rPr sz="1800"/>
            </a:b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средини дужине кор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Букална грана дужа и грацил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Проксимални профили имају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 мезијалну и дисталну депрес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Трансверзални пресек на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 цервикалном нивоу је бубрежастог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 облика, са изражено већим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БУКОЛИНГВАЛНИМ ПРОМЕРОМ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5124600" y="1523880"/>
            <a:ext cx="4019400" cy="5334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26" name="WordArt 8"/>
          <p:cNvSpPr txBox="1"/>
          <p:nvPr/>
        </p:nvSpPr>
        <p:spPr>
          <a:xfrm>
            <a:off x="5105520" y="22860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524376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7224480" y="1789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600588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798660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5622840" y="64371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1814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66"/>
                </a:solidFill>
                <a:latin typeface="Arial"/>
                <a:ea typeface="SimSu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5470560" y="643716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7070760" y="6437160"/>
            <a:ext cx="32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66"/>
                </a:solidFill>
                <a:latin typeface="Arial"/>
                <a:ea typeface="SimSu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НВЕРГЕНЦИЈЕ ПРОКСИМАЛНИХ ПРОФИЛА (оклузални асп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АГИБ КВРЖИЧНИХ ГРЕБЕНА И ОБЛИК КВРЖИЦА (букални асп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ИНТЕРКУСПАЛНЕ ШИР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НВЕРГЕНЦИЈЕ ПРОКСИМАЛНИХ ПРОФИЛА (букални аспек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ЈАМИЦЕ И ФИСУРЕ НА БУКАЛНОЈ ПОВРШ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БРОЈ КОРЕ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724280" y="2286000"/>
            <a:ext cx="4038840" cy="189396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9"/>
          <p:cNvSpPr/>
          <p:nvPr/>
        </p:nvSpPr>
        <p:spPr>
          <a:xfrm>
            <a:off x="7696080" y="2362320"/>
            <a:ext cx="304920" cy="366480"/>
          </a:xfrm>
          <a:prstGeom prst="downArrow">
            <a:avLst>
              <a:gd name="adj1" fmla="val 50000"/>
              <a:gd name="adj2" fmla="val 30019"/>
            </a:avLst>
          </a:prstGeom>
          <a:solidFill>
            <a:srgbClr val="fa0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10"/>
          <p:cNvSpPr txBox="1"/>
          <p:nvPr/>
        </p:nvSpPr>
        <p:spPr>
          <a:xfrm>
            <a:off x="1676520" y="228600"/>
            <a:ext cx="577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  ГОРЊЕГ  ПРВОГ 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5334120" y="2362320"/>
            <a:ext cx="257040" cy="747720"/>
          </a:xfrm>
          <a:prstGeom prst="downArrow">
            <a:avLst>
              <a:gd name="adj1" fmla="val 50000"/>
              <a:gd name="adj2" fmla="val 72657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НВЕРГЕНЦИЈЕ ПРОКСИМАЛНИХ ПРОФИЛА (оклузални аспект)</a:t>
            </a:r>
            <a:br>
              <a:rPr sz="1800"/>
            </a:b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д 1. ЛИНГВАЛНА КОНВЕРГЕНЦИЈА ПРОКСИМАЛНИХ ПРОФ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1620720" y="5109840"/>
            <a:ext cx="70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 – </a:t>
            </a:r>
            <a:r>
              <a:rPr b="1" lang="sr-Latn-CS" sz="2000" spc="-1" strike="noStrike">
                <a:solidFill>
                  <a:srgbClr val="00ff00"/>
                </a:solidFill>
                <a:latin typeface="Arial"/>
                <a:ea typeface="SimSun"/>
              </a:rPr>
              <a:t>БЛАГ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ЛИНГВАЛНА КОНВЕРГЕНЦИЈА </a:t>
            </a:r>
            <a:r>
              <a:rPr b="1" lang="sr-Latn-CS" sz="2400" spc="-1" strike="noStrike">
                <a:solidFill>
                  <a:srgbClr val="00ff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b –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УМЕРНА ЛИНГВАЛНА КОНВЕРГЕН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c – </a:t>
            </a:r>
            <a:r>
              <a:rPr b="1" lang="sr-Latn-CS" sz="2000" spc="-1" strike="noStrike">
                <a:solidFill>
                  <a:srgbClr val="ffc000"/>
                </a:solidFill>
                <a:latin typeface="Arial"/>
                <a:ea typeface="SimSun"/>
              </a:rPr>
              <a:t>ЈАКО ИЗРАЖЕНА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ЛИНГВАЛНА КОНВЕРГЕНЦИЈА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14"/>
          <p:cNvGraphicFramePr/>
          <p:nvPr/>
        </p:nvGraphicFramePr>
        <p:xfrm>
          <a:off x="1065240" y="2279520"/>
          <a:ext cx="6931080" cy="24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2279520"/>
                    <a:ext cx="6931080" cy="249732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4" name="Line 18"/>
          <p:cNvSpPr/>
          <p:nvPr/>
        </p:nvSpPr>
        <p:spPr>
          <a:xfrm flipH="1">
            <a:off x="3047760" y="3200400"/>
            <a:ext cx="15228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>
            <a:off x="3352680" y="320040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 flipH="1">
            <a:off x="5257440" y="320040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5715000" y="3200400"/>
            <a:ext cx="30492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2"/>
          <p:cNvSpPr/>
          <p:nvPr/>
        </p:nvSpPr>
        <p:spPr>
          <a:xfrm flipH="1">
            <a:off x="7620120" y="3200400"/>
            <a:ext cx="30456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276720" y="2286000"/>
          <a:ext cx="2361960" cy="251460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42"/>
          <p:cNvSpPr/>
          <p:nvPr/>
        </p:nvSpPr>
        <p:spPr>
          <a:xfrm>
            <a:off x="114300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3"/>
          <p:cNvSpPr/>
          <p:nvPr/>
        </p:nvSpPr>
        <p:spPr>
          <a:xfrm>
            <a:off x="3352680" y="4191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4"/>
          <p:cNvSpPr/>
          <p:nvPr/>
        </p:nvSpPr>
        <p:spPr>
          <a:xfrm>
            <a:off x="571500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7"/>
          <p:cNvSpPr/>
          <p:nvPr/>
        </p:nvSpPr>
        <p:spPr>
          <a:xfrm>
            <a:off x="1127160" y="3214800"/>
            <a:ext cx="183960" cy="36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8"/>
          <p:cNvSpPr/>
          <p:nvPr/>
        </p:nvSpPr>
        <p:spPr>
          <a:xfrm>
            <a:off x="1089000" y="3581280"/>
            <a:ext cx="18432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9"/>
          <p:cNvSpPr/>
          <p:nvPr/>
        </p:nvSpPr>
        <p:spPr>
          <a:xfrm>
            <a:off x="1127160" y="3693960"/>
            <a:ext cx="18396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0"/>
          <p:cNvSpPr/>
          <p:nvPr/>
        </p:nvSpPr>
        <p:spPr>
          <a:xfrm>
            <a:off x="1219320" y="3276720"/>
            <a:ext cx="15228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10"/>
          <p:cNvSpPr txBox="1"/>
          <p:nvPr/>
        </p:nvSpPr>
        <p:spPr>
          <a:xfrm>
            <a:off x="1676520" y="228600"/>
            <a:ext cx="577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  ГОРЊЕГ  ПРВОГ 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"/>
          <p:cNvPicPr/>
          <p:nvPr/>
        </p:nvPicPr>
        <p:blipFill>
          <a:blip r:embed="rId1"/>
          <a:stretch/>
        </p:blipFill>
        <p:spPr>
          <a:xfrm>
            <a:off x="457200" y="714240"/>
            <a:ext cx="82296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Rectangle 12"/>
          <p:cNvSpPr/>
          <p:nvPr/>
        </p:nvSpPr>
        <p:spPr>
          <a:xfrm>
            <a:off x="4251960" y="30492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АТРИБУТИ КЛАСЕ ПРЕМОЛА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52280" y="4572000"/>
            <a:ext cx="8534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SimSun"/>
              </a:rPr>
              <a:t>Интермедијални – прелазни зуб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SimSun"/>
              </a:rPr>
              <a:t>10. и 12. години замењује млечни мол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SimSun"/>
              </a:rPr>
              <a:t>Бочна (постериорна) група - са молар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SimSun"/>
              </a:rPr>
              <a:t>Појава ОКЛУЗАЛНЕ површина са квржично-гребенским и фисурним комплекс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SimSun"/>
              </a:rPr>
              <a:t>БИКУСПИДИ и МОЛАРИЗАЦИЈА  појава трећа кврж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SimSun"/>
              </a:rPr>
              <a:t>Кидање, продирање кроз залогај и млевање х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6477120" y="3962520"/>
            <a:ext cx="457200" cy="609480"/>
          </a:xfrm>
          <a:prstGeom prst="upArrow">
            <a:avLst>
              <a:gd name="adj1" fmla="val 50000"/>
              <a:gd name="adj2" fmla="val 33296"/>
            </a:avLst>
          </a:prstGeom>
          <a:solidFill>
            <a:srgbClr val="fa0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6"/>
          <p:cNvSpPr/>
          <p:nvPr/>
        </p:nvSpPr>
        <p:spPr>
          <a:xfrm rot="10800000">
            <a:off x="6629400" y="838080"/>
            <a:ext cx="457200" cy="609840"/>
          </a:xfrm>
          <a:prstGeom prst="upArrow">
            <a:avLst>
              <a:gd name="adj1" fmla="val 50000"/>
              <a:gd name="adj2" fmla="val 3331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 rot="10800000">
            <a:off x="1752480" y="761760"/>
            <a:ext cx="457200" cy="1447560"/>
          </a:xfrm>
          <a:prstGeom prst="upArrow">
            <a:avLst>
              <a:gd name="adj1" fmla="val 50000"/>
              <a:gd name="adj2" fmla="val 7908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 rot="20952600">
            <a:off x="1828800" y="3657600"/>
            <a:ext cx="457200" cy="609480"/>
          </a:xfrm>
          <a:prstGeom prst="upArrow">
            <a:avLst>
              <a:gd name="adj1" fmla="val 50000"/>
              <a:gd name="adj2" fmla="val 33296"/>
            </a:avLst>
          </a:prstGeom>
          <a:solidFill>
            <a:srgbClr val="fa0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19"/>
          <p:cNvSpPr txBox="1"/>
          <p:nvPr/>
        </p:nvSpPr>
        <p:spPr>
          <a:xfrm>
            <a:off x="228600" y="152280"/>
            <a:ext cx="344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Класа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"/>
          <p:cNvSpPr/>
          <p:nvPr/>
        </p:nvSpPr>
        <p:spPr>
          <a:xfrm>
            <a:off x="2362320" y="5365440"/>
            <a:ext cx="540504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 – благо звонасти облик кру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c0064"/>
                </a:solidFill>
                <a:latin typeface="Arial"/>
                <a:ea typeface="SimSun"/>
              </a:rPr>
              <a:t>b – умерено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звонасти облик кру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a0421"/>
                </a:solidFill>
                <a:latin typeface="Arial"/>
                <a:ea typeface="SimSun"/>
              </a:rPr>
              <a:t>ц</a:t>
            </a:r>
            <a:r>
              <a:rPr b="1" lang="sr-Latn-CS" sz="2400" spc="-1" strike="noStrike">
                <a:solidFill>
                  <a:srgbClr val="fa0421"/>
                </a:solidFill>
                <a:latin typeface="Arial"/>
                <a:ea typeface="SimSun"/>
              </a:rPr>
              <a:t> –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r-Latn-CS" sz="2400" spc="-1" strike="noStrike">
                <a:solidFill>
                  <a:srgbClr val="fa0421"/>
                </a:solidFill>
                <a:latin typeface="Arial"/>
                <a:ea typeface="SimSun"/>
              </a:rPr>
              <a:t>изражен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звонасти облик кру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1371600" y="1905120"/>
          <a:ext cx="6626160" cy="34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6626160" cy="342252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1" name="Rectangle 15"/>
          <p:cNvSpPr/>
          <p:nvPr/>
        </p:nvSpPr>
        <p:spPr>
          <a:xfrm>
            <a:off x="1526040" y="457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3228840" y="4572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5334840" y="45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a0421"/>
                </a:solidFill>
                <a:latin typeface="Arial"/>
                <a:ea typeface="SimSu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2971800" y="1676520"/>
            <a:ext cx="0" cy="3429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НВЕРГЕНЦИЈЕ ПРОКСИМАЛНИХ ПРОФИЛА (букални аспект)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д 2. ЦЕРВИКАЛНА  КОНВЕРГЕНЦИЈА ПРОКСИМАЛНИХ ПРОФ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WordArt 10"/>
          <p:cNvSpPr txBox="1"/>
          <p:nvPr/>
        </p:nvSpPr>
        <p:spPr>
          <a:xfrm>
            <a:off x="1600200" y="228600"/>
            <a:ext cx="5772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  ГОРЊЕГ  ПРВОГ 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60948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д 3. ИНТЕРКУСПАЛНА ШИРИ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228600" y="58698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  –  </a:t>
            </a:r>
            <a:r>
              <a:rPr b="1" lang="sr-Latn-CS" sz="2400" spc="-1" strike="noStrike">
                <a:solidFill>
                  <a:srgbClr val="00ff00"/>
                </a:solidFill>
                <a:latin typeface="Arial"/>
                <a:ea typeface="SimSun"/>
              </a:rPr>
              <a:t>ма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интеркуспално квржично растојање</a:t>
            </a:r>
            <a:r>
              <a:rPr b="1" lang="sr-Latn-CS" sz="2400" spc="-1" strike="noStrike">
                <a:solidFill>
                  <a:srgbClr val="00ff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b – </a:t>
            </a:r>
            <a:r>
              <a:rPr b="1" lang="sr-Latn-CS" sz="2400" spc="-1" strike="noStrike">
                <a:solidFill>
                  <a:srgbClr val="fa0421"/>
                </a:solidFill>
                <a:latin typeface="Arial"/>
                <a:ea typeface="SimSun"/>
              </a:rPr>
              <a:t> екстремно велико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интеркуспално кврж. растојање</a:t>
            </a:r>
            <a:r>
              <a:rPr b="1" lang="sr-Latn-CS" sz="2400" spc="-1" strike="noStrike">
                <a:solidFill>
                  <a:srgbClr val="00ff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57280" y="1523880"/>
            <a:ext cx="4429440" cy="4238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70" name="AutoShape 12"/>
          <p:cNvSpPr/>
          <p:nvPr/>
        </p:nvSpPr>
        <p:spPr>
          <a:xfrm>
            <a:off x="3124080" y="541008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>
            <a:off x="5257800" y="5410080"/>
            <a:ext cx="990720" cy="304920"/>
          </a:xfrm>
          <a:prstGeom prst="leftRightArrow">
            <a:avLst>
              <a:gd name="adj1" fmla="val 50000"/>
              <a:gd name="adj2" fmla="val 64681"/>
            </a:avLst>
          </a:prstGeom>
          <a:solidFill>
            <a:srgbClr val="fa0421"/>
          </a:solidFill>
          <a:ln w="9360">
            <a:solidFill>
              <a:srgbClr val="fa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10"/>
          <p:cNvSpPr txBox="1"/>
          <p:nvPr/>
        </p:nvSpPr>
        <p:spPr>
          <a:xfrm>
            <a:off x="1600200" y="228600"/>
            <a:ext cx="5772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  ГОРЊЕГ  ПРВОГ 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152280" y="4572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д 4. НАГИБ КВРЖИЧНИХ ГРЕБЕНА И РАЗЛИЧИТИХ ОБЛИКА КВРЖИ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6"/>
          <p:cNvGraphicFramePr/>
          <p:nvPr/>
        </p:nvGraphicFramePr>
        <p:xfrm>
          <a:off x="2627280" y="1339920"/>
          <a:ext cx="3832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39920"/>
                    <a:ext cx="3832200" cy="426708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6" name="Rectangle 9"/>
          <p:cNvSpPr/>
          <p:nvPr/>
        </p:nvSpPr>
        <p:spPr>
          <a:xfrm>
            <a:off x="304920" y="5642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– оштра (“копљаста”) форма букалне кврж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– затупаста форма кврж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1600200" y="152280"/>
            <a:ext cx="57722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  ГОРЊЕГ  ПРВОГ 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д 5.  ФИСУРЕ И ЈАМИЦЕ У МЕЗИЈАЛНОЈ РАЗВОЈНОЈ БРАЗДИ НА БУКАЛНОЈ ПОВРШ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6"/>
          <p:cNvGraphicFramePr/>
          <p:nvPr/>
        </p:nvGraphicFramePr>
        <p:xfrm>
          <a:off x="1141560" y="2128680"/>
          <a:ext cx="685476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2128680"/>
                    <a:ext cx="6854760" cy="268776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1" name="Rectangle 9"/>
          <p:cNvSpPr/>
          <p:nvPr/>
        </p:nvSpPr>
        <p:spPr>
          <a:xfrm>
            <a:off x="609480" y="50043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– </a:t>
            </a:r>
            <a:r>
              <a:rPr b="1" lang="sr-Latn-CS" sz="2400" spc="-1" strike="noStrike">
                <a:solidFill>
                  <a:srgbClr val="00ff00"/>
                </a:solidFill>
                <a:latin typeface="Arial"/>
                <a:ea typeface="SimSun"/>
              </a:rPr>
              <a:t>плит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бра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SimSun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–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SimSun"/>
              </a:rPr>
              <a:t>дуб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бра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SimSun"/>
              </a:rPr>
              <a:t>ц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–</a:t>
            </a:r>
            <a:r>
              <a:rPr b="1" lang="sr-Latn-CS" sz="2400" spc="-1" strike="noStrike">
                <a:solidFill>
                  <a:srgbClr val="ffc000"/>
                </a:solidFill>
                <a:latin typeface="Arial"/>
                <a:ea typeface="SimSun"/>
              </a:rPr>
              <a:t> фису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 у мезијалној развојној браз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10"/>
          <p:cNvSpPr txBox="1"/>
          <p:nvPr/>
        </p:nvSpPr>
        <p:spPr>
          <a:xfrm>
            <a:off x="1600200" y="152280"/>
            <a:ext cx="57722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  ГОРЊЕГ  ПРВОГ 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10"/>
          <p:cNvGraphicFramePr/>
          <p:nvPr/>
        </p:nvGraphicFramePr>
        <p:xfrm>
          <a:off x="4645080" y="1901880"/>
          <a:ext cx="365580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1901880"/>
                    <a:ext cx="3655800" cy="33274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5" name="Object 9"/>
          <p:cNvGraphicFramePr/>
          <p:nvPr/>
        </p:nvGraphicFramePr>
        <p:xfrm>
          <a:off x="836640" y="1901880"/>
          <a:ext cx="3808440" cy="332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1901880"/>
                    <a:ext cx="3808440" cy="33274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5"/>
          <p:cNvSpPr/>
          <p:nvPr/>
        </p:nvSpPr>
        <p:spPr>
          <a:xfrm>
            <a:off x="609480" y="685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д6. ИРЕГИЛАРАН БРОЈ КОРЕ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838080" y="4738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SimSu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26668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SimSu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464832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SimSu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647712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SimSu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484200" y="5355000"/>
            <a:ext cx="797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 – блага (регуларна) апикална конверг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SimSun"/>
              </a:rPr>
              <a:t>б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 – oштра апикална конверг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SimSun"/>
              </a:rPr>
              <a:t>ц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– бифуркација је на споју цервикалне и средње трећ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SimSun"/>
              </a:rPr>
              <a:t>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 – бифуркација у апикалнпој трећини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10"/>
          <p:cNvSpPr txBox="1"/>
          <p:nvPr/>
        </p:nvSpPr>
        <p:spPr>
          <a:xfrm>
            <a:off x="1600200" y="152280"/>
            <a:ext cx="57722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  ГОРЊЕГ  ПРВОГ  ПРЕМОЛАРА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7400" y="152280"/>
            <a:ext cx="7002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29be6"/>
                </a:solidFill>
                <a:latin typeface="Impact"/>
              </a:rPr>
              <a:t>ВАРИЈАЦИЈЕ   ГОРЊЕГ  ПРВОГ ПРЕМОЛ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1218960"/>
            <a:ext cx="83822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орњи први премолар може имати један корен или три коренске гране (две букалне и палатинална) </a:t>
            </a:r>
            <a:r>
              <a:rPr b="1" lang="sr-RS" sz="2400" spc="-1" strike="noStrike">
                <a:solidFill>
                  <a:srgbClr val="47ffa3"/>
                </a:solidFill>
                <a:latin typeface="Arial"/>
              </a:rPr>
              <a:t>МОЛАРИЗ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амеларни спој 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лимични или потпун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) букалне и лингвалне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енске гране ирегуларно закривљене или дистално инклиниране у апикалној трећ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6804000" y="3860640"/>
            <a:ext cx="12272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228600" y="1828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287280" y="843120"/>
            <a:ext cx="876312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29b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29be6"/>
                </a:solidFill>
                <a:latin typeface="Tahoma"/>
                <a:ea typeface="SimSun"/>
              </a:rPr>
              <a:t> </a:t>
            </a: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ОПШТЕ КАРАКТЕРИСТИКЕ</a:t>
            </a: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Положај у луку  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-</a:t>
            </a:r>
            <a:r>
              <a:rPr b="1" lang="sr-Latn-RS" sz="1400" spc="-1" strike="noStrike">
                <a:solidFill>
                  <a:srgbClr val="000000"/>
                </a:solidFill>
                <a:latin typeface="Tahoma"/>
                <a:ea typeface="SimSun"/>
              </a:rPr>
              <a:t>5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од медијалне линије; мезијално контактира се првим премоларом, а</a:t>
            </a:r>
            <a:br>
              <a:rPr sz="1400"/>
            </a:b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                           дистално са првим сталним мола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Номенклатура</a:t>
            </a:r>
            <a:r>
              <a:rPr b="1" i="1" lang="sr-Latn-CS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Општи облик и функција</a:t>
            </a:r>
            <a:r>
              <a:rPr b="1" i="1" lang="sr-Latn-CS" sz="14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Млевење хране, естетика и фон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sr-R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ПРАВИЛАН ЗНАК УГЛА И ЛУКА И  ДИСТАЛНИ НАГИБ КО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29b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 </a:t>
            </a: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ОКЛУДИРА СА ДОЊИМ ДРУГИМ ПРЕМОЛАРОМ И ПРВИМ МОЛ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sr-RS" sz="1800" spc="-1" strike="noStrike" u="sng">
                <a:solidFill>
                  <a:srgbClr val="1e63bd"/>
                </a:solidFill>
                <a:uFillTx/>
                <a:latin typeface="Tahoma"/>
                <a:ea typeface="SimSun"/>
              </a:rPr>
              <a:t>Са свих аспеката сличан </a:t>
            </a:r>
            <a:br>
              <a:rPr sz="1800"/>
            </a:br>
            <a:r>
              <a:rPr b="1" lang="sr-RS" sz="1800" spc="-1" strike="noStrike" u="sng">
                <a:solidFill>
                  <a:srgbClr val="1e63bd"/>
                </a:solidFill>
                <a:uFillTx/>
                <a:latin typeface="Tahoma"/>
                <a:ea typeface="SimSun"/>
              </a:rPr>
              <a:t>   горњем првом ПМ</a:t>
            </a: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Букални аспект сличан</a:t>
            </a:r>
            <a:br>
              <a:rPr sz="1800"/>
            </a:b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  петоугао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WordArt 14"/>
          <p:cNvSpPr txBox="1"/>
          <p:nvPr/>
        </p:nvSpPr>
        <p:spPr>
          <a:xfrm>
            <a:off x="1676520" y="142920"/>
            <a:ext cx="617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  </a:t>
            </a: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ДРУГИ  ПРЕМОЛАР  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2290320" y="62064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Dens praemolaris secundus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3571920" y="3821040"/>
            <a:ext cx="5432400" cy="288612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11"/>
          <p:cNvSpPr/>
          <p:nvPr/>
        </p:nvSpPr>
        <p:spPr>
          <a:xfrm rot="10800000">
            <a:off x="4267080" y="3809520"/>
            <a:ext cx="457200" cy="1295640"/>
          </a:xfrm>
          <a:prstGeom prst="upArrow">
            <a:avLst>
              <a:gd name="adj1" fmla="val 50000"/>
              <a:gd name="adj2" fmla="val 70781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/>
          <p:cNvSpPr/>
          <p:nvPr/>
        </p:nvSpPr>
        <p:spPr>
          <a:xfrm rot="10548000">
            <a:off x="7619760" y="3885480"/>
            <a:ext cx="457200" cy="609480"/>
          </a:xfrm>
          <a:prstGeom prst="upArrow">
            <a:avLst>
              <a:gd name="adj1" fmla="val 50000"/>
              <a:gd name="adj2" fmla="val 33296"/>
            </a:avLst>
          </a:prstGeom>
          <a:solidFill>
            <a:srgbClr val="fa0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2048760" y="2060640"/>
            <a:ext cx="39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1e63bd"/>
                </a:solidFill>
                <a:latin typeface="Arial"/>
                <a:ea typeface="SimSun"/>
              </a:rPr>
              <a:t>* стални горњи десни други премолар: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1e63bd"/>
                </a:solidFill>
                <a:latin typeface="Arial"/>
                <a:ea typeface="SimSun"/>
              </a:rPr>
              <a:t>* стални горњи леви други премолар:   </a:t>
            </a:r>
            <a:r>
              <a:rPr b="1" lang="sr-Latn-CS" sz="1400" spc="-1" strike="noStrike">
                <a:solidFill>
                  <a:srgbClr val="1e63bd"/>
                </a:solidFill>
                <a:latin typeface="Arial"/>
                <a:ea typeface="SimSun"/>
              </a:rPr>
              <a:t>2</a:t>
            </a:r>
            <a:r>
              <a:rPr b="1" lang="sr-RS" sz="1400" spc="-1" strike="noStrike">
                <a:solidFill>
                  <a:srgbClr val="1e63bd"/>
                </a:solidFill>
                <a:latin typeface="Arial"/>
                <a:ea typeface="SimSu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457200" y="762120"/>
            <a:ext cx="8388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8,074"/>
          <p:cNvPicPr/>
          <p:nvPr/>
        </p:nvPicPr>
        <p:blipFill>
          <a:blip r:embed="rId1"/>
          <a:stretch/>
        </p:blipFill>
        <p:spPr>
          <a:xfrm>
            <a:off x="5257800" y="1066680"/>
            <a:ext cx="1981080" cy="1789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07" name="Picture 9" descr="8,075"/>
          <p:cNvPicPr/>
          <p:nvPr/>
        </p:nvPicPr>
        <p:blipFill>
          <a:blip r:embed="rId2"/>
          <a:stretch/>
        </p:blipFill>
        <p:spPr>
          <a:xfrm>
            <a:off x="7238880" y="1066680"/>
            <a:ext cx="167184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08" name="Picture 10" descr="8,076"/>
          <p:cNvPicPr/>
          <p:nvPr/>
        </p:nvPicPr>
        <p:blipFill>
          <a:blip r:embed="rId3"/>
          <a:stretch/>
        </p:blipFill>
        <p:spPr>
          <a:xfrm>
            <a:off x="5257800" y="2895480"/>
            <a:ext cx="1905120" cy="152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09" name="Picture 11" descr="8,077"/>
          <p:cNvPicPr/>
          <p:nvPr/>
        </p:nvPicPr>
        <p:blipFill>
          <a:blip r:embed="rId4"/>
          <a:stretch/>
        </p:blipFill>
        <p:spPr>
          <a:xfrm>
            <a:off x="7162920" y="2895480"/>
            <a:ext cx="1676160" cy="151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10" name="WordArt 13"/>
          <p:cNvSpPr txBox="1"/>
          <p:nvPr/>
        </p:nvSpPr>
        <p:spPr>
          <a:xfrm>
            <a:off x="1219320" y="152280"/>
            <a:ext cx="670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ДРУГИ ПРЕМОЛАР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pic>
        <p:nvPicPr>
          <p:cNvPr id="411" name="Picture 14" descr="8,078"/>
          <p:cNvPicPr/>
          <p:nvPr/>
        </p:nvPicPr>
        <p:blipFill>
          <a:blip r:embed="rId5"/>
          <a:stretch/>
        </p:blipFill>
        <p:spPr>
          <a:xfrm>
            <a:off x="5257800" y="4419720"/>
            <a:ext cx="3581280" cy="205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12" name="Text Box 18"/>
          <p:cNvSpPr/>
          <p:nvPr/>
        </p:nvSpPr>
        <p:spPr>
          <a:xfrm>
            <a:off x="5320080" y="60562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66"/>
                </a:solidFill>
                <a:latin typeface="Arial"/>
                <a:ea typeface="SimSu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6995880" y="6095880"/>
            <a:ext cx="25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66"/>
                </a:solidFill>
                <a:latin typeface="Arial"/>
                <a:ea typeface="SimSu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396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7300800" y="117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53200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722448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7"/>
          <p:cNvSpPr/>
          <p:nvPr/>
        </p:nvSpPr>
        <p:spPr>
          <a:xfrm>
            <a:off x="326880" y="99072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Dens praemolaris secundus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228600" y="1523880"/>
            <a:ext cx="499752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629be6"/>
                </a:solidFill>
                <a:latin typeface="Arial"/>
                <a:ea typeface="SimSun"/>
              </a:rPr>
              <a:t>  </a:t>
            </a: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ТАБЕЛА РАЗВОЈА ГОЊЕГ  ДРУГОГ  ПРЕМОЛ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Почетак калцификације              </a:t>
            </a:r>
            <a:r>
              <a:rPr b="1" lang="sr-Latn-CS" sz="1200" spc="-1" strike="noStrike">
                <a:solidFill>
                  <a:srgbClr val="629be6"/>
                </a:solidFill>
                <a:latin typeface="Arial"/>
                <a:ea typeface="SimSun"/>
              </a:rPr>
              <a:t>2-2,3 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00"/>
                </a:solidFill>
                <a:latin typeface="Arial"/>
                <a:ea typeface="SimSun"/>
              </a:rPr>
              <a:t>  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Комплетно формирана круна   </a:t>
            </a:r>
            <a:r>
              <a:rPr b="1" lang="sr-Latn-CS" sz="1200" spc="-1" strike="noStrike">
                <a:solidFill>
                  <a:srgbClr val="629be6"/>
                </a:solidFill>
                <a:latin typeface="Arial"/>
                <a:ea typeface="SimSun"/>
              </a:rPr>
              <a:t> 6-7. 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Ерупција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</a:t>
            </a:r>
            <a:r>
              <a:rPr b="1" lang="sr-Latn-CS" sz="1200" spc="-1" strike="noStrike">
                <a:solidFill>
                  <a:srgbClr val="629be6"/>
                </a:solidFill>
                <a:latin typeface="Arial"/>
                <a:ea typeface="SimSun"/>
              </a:rPr>
              <a:t> 11-12. 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Завешен раст корена                  </a:t>
            </a:r>
            <a:r>
              <a:rPr b="1" lang="sr-Latn-CS" sz="1200" spc="-1" strike="noStrike">
                <a:solidFill>
                  <a:srgbClr val="629be6"/>
                </a:solidFill>
                <a:latin typeface="Arial"/>
                <a:ea typeface="SimSun"/>
              </a:rPr>
              <a:t>12 - 14. 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  </a:t>
            </a: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ДИМЕНЗИЈЕ ГОЊЕГ ПРВОГ ПРЕМОЛ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АСП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КОРЕ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04920" y="3419640"/>
          <a:ext cx="4800600" cy="2124000"/>
        </p:xfrm>
        <a:graphic>
          <a:graphicData uri="http://schemas.openxmlformats.org/drawingml/2006/table">
            <a:tbl>
              <a:tblPr/>
              <a:tblGrid>
                <a:gridCol w="3352680"/>
                <a:gridCol w="144792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зиодистална 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копалатинал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сина кру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</a:tr>
              <a:tr h="466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ужина кор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упна дуж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5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479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6" descr="8,074"/>
          <p:cNvPicPr/>
          <p:nvPr/>
        </p:nvPicPr>
        <p:blipFill>
          <a:blip r:embed="rId1"/>
          <a:stretch/>
        </p:blipFill>
        <p:spPr>
          <a:xfrm>
            <a:off x="5486400" y="1066680"/>
            <a:ext cx="1905120" cy="1863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23" name="Picture 9" descr="8,075"/>
          <p:cNvPicPr/>
          <p:nvPr/>
        </p:nvPicPr>
        <p:blipFill>
          <a:blip r:embed="rId2"/>
          <a:stretch/>
        </p:blipFill>
        <p:spPr>
          <a:xfrm>
            <a:off x="7472520" y="1066680"/>
            <a:ext cx="167148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24" name="Picture 12" descr="8,076"/>
          <p:cNvPicPr/>
          <p:nvPr/>
        </p:nvPicPr>
        <p:blipFill>
          <a:blip r:embed="rId3"/>
          <a:stretch/>
        </p:blipFill>
        <p:spPr>
          <a:xfrm>
            <a:off x="5483160" y="2960640"/>
            <a:ext cx="1903320" cy="151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25" name="Picture 15" descr="8,077"/>
          <p:cNvPicPr/>
          <p:nvPr/>
        </p:nvPicPr>
        <p:blipFill>
          <a:blip r:embed="rId4"/>
          <a:stretch/>
        </p:blipFill>
        <p:spPr>
          <a:xfrm>
            <a:off x="7467480" y="2971800"/>
            <a:ext cx="1676520" cy="151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6" name="Text Box 21"/>
          <p:cNvSpPr/>
          <p:nvPr/>
        </p:nvSpPr>
        <p:spPr>
          <a:xfrm>
            <a:off x="5547240" y="1098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Tahoma"/>
                <a:ea typeface="SimSu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7529400" y="1098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Tahoma"/>
                <a:ea typeface="SimSu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5550120" y="30034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Tahoma"/>
                <a:ea typeface="SimSu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4"/>
          <p:cNvSpPr/>
          <p:nvPr/>
        </p:nvSpPr>
        <p:spPr>
          <a:xfrm>
            <a:off x="7453080" y="3003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Tahoma"/>
                <a:ea typeface="SimSu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5"/>
          <p:cNvSpPr/>
          <p:nvPr/>
        </p:nvSpPr>
        <p:spPr>
          <a:xfrm>
            <a:off x="5470560" y="628020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5"/>
          <a:stretch/>
        </p:blipFill>
        <p:spPr>
          <a:xfrm>
            <a:off x="457200" y="231840"/>
            <a:ext cx="7394400" cy="761760"/>
          </a:xfrm>
          <a:prstGeom prst="rect">
            <a:avLst/>
          </a:prstGeom>
          <a:ln w="0">
            <a:noFill/>
          </a:ln>
        </p:spPr>
      </p:pic>
      <p:sp>
        <p:nvSpPr>
          <p:cNvPr id="432" name="Content Placeholder 2"/>
          <p:cNvSpPr/>
          <p:nvPr/>
        </p:nvSpPr>
        <p:spPr>
          <a:xfrm>
            <a:off x="228600" y="1208160"/>
            <a:ext cx="7459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БУКАЛНИ АСПЕКТ 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– букална квржица је мање висока и 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 оштра, врх БК нагнут мезијално 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(правилан знак угла и лука)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- некада показује обрнут знак или га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не показ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- мезио- и дисто-оклузални краци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    угла слабије изражени, 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  - мезијални профил мање конкаван,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  - ретко присутни лобуса и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     проксималне развојне бра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ПАЛАТИНАЛНИ АСПЕКТ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– као горњи први П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ДИСТАЛНИ АСПЕКТ</a:t>
            </a:r>
            <a:r>
              <a:rPr b="1" lang="sr-RS" sz="1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- као горњи први П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МЕЗИЈАЛНИ АСПЕКТ</a:t>
            </a:r>
            <a:r>
              <a:rPr b="1" lang="sr-RS" sz="1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– зависи од знака и  кука круне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- БК и ПК скоро исте ВИСИНЕ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- не постоји усек на мезијалном маргиналном гребену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- не постоји конкавитет на мезијалној површини круне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SimSun"/>
              </a:rPr>
              <a:t> - само ЈЕДАН кор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ГОРЊИ ПРЕМОЛ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143000"/>
            <a:ext cx="8531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дијално од тангенте која додирује темена криве лабијалне површине очњака и букалне површне гроњег првог мол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29b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629be6"/>
                </a:solidFill>
                <a:latin typeface="Arial"/>
              </a:rPr>
              <a:t>БУКАЛНИ КОРИДОР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роугласти простор између угла усана и вестибуларних површина очњака и премол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4191120"/>
          <a:ext cx="6096240" cy="1858680"/>
        </p:xfrm>
        <a:graphic>
          <a:graphicData uri="http://schemas.openxmlformats.org/drawingml/2006/table">
            <a:tbl>
              <a:tblPr/>
              <a:tblGrid>
                <a:gridCol w="1905120"/>
                <a:gridCol w="2158920"/>
                <a:gridCol w="203220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Горњи ПРВИ премо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Обрнут знак угла и л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Две коренске гр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Горњи ДУГИ  премо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290b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равилан топогрфско-анатом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290b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Један кор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290be"/>
                    </a:solidFill>
                  </a:tcPr>
                </a:tc>
              </a:tr>
            </a:tbl>
          </a:graphicData>
        </a:graphic>
      </p:graphicFrame>
      <p:sp>
        <p:nvSpPr>
          <p:cNvPr id="25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29be6"/>
                </a:solidFill>
                <a:latin typeface="Impact"/>
              </a:rPr>
              <a:t>ГОРЊИ ДРУГИ ПРЕМО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83680" y="1219320"/>
            <a:ext cx="898524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29b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629be6"/>
                </a:solidFill>
                <a:uFillTx/>
                <a:latin typeface="Arial"/>
              </a:rPr>
              <a:t>ОКЛУЗАЛНИ АСПЕКТ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c000"/>
                </a:solidFill>
                <a:latin typeface="Arial"/>
              </a:rPr>
              <a:t>Спољашње оклузално поље: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више овалног обл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јако заобљен мезијални и дистални угао.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оксимални профили немају лингвану конвергенциј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једва приметни лобуси и квржични греб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c000"/>
                </a:solidFill>
                <a:latin typeface="Arial"/>
              </a:rPr>
              <a:t>Унутрашње оклузално поље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правоугао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мезиодисталне ширине обе квржице скоро једна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не уочава се лингв. конврегенција оклуз. ивица маргиналних греб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СУРНИ КОМПЛЕКС (широк опсег варијација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централна фисура краћа, неправилнијег облика и правца пруж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оксималне јамице су ближе централном делу У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езиомаргинална бразда не посто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ингвалне бразде јаче израж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рх ПК блаже инклиниран мезиј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629be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 u="sng">
                <a:solidFill>
                  <a:srgbClr val="629be6"/>
                </a:solidFill>
                <a:uFillTx/>
                <a:latin typeface="Arial"/>
              </a:rPr>
              <a:t>КОРЕН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један, шири буколингвално; у нивоу цервикса хориз. пресек је ова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8" descr="8,078"/>
          <p:cNvPicPr/>
          <p:nvPr/>
        </p:nvPicPr>
        <p:blipFill>
          <a:blip r:embed="rId1"/>
          <a:stretch/>
        </p:blipFill>
        <p:spPr>
          <a:xfrm>
            <a:off x="5257800" y="228600"/>
            <a:ext cx="3657600" cy="2030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5865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.   ОБЛИК КВРЖ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.   ДОПУНСКИ ГРЕБ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3.   ИЗГЛЕД МАРГИНАЛНОГ ГРЕБ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4.   ИРЕГУЛАРНИ ФИСУРНИ 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.   ИЗГЛЕД КРУНЕ СА БУКАЛНОГ АСП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.   ИРЕГУЛАРНОСТ КОРЕНА - број, облик и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8" descr=""/>
          <p:cNvPicPr/>
          <p:nvPr/>
        </p:nvPicPr>
        <p:blipFill>
          <a:blip r:embed="rId1"/>
          <a:stretch/>
        </p:blipFill>
        <p:spPr>
          <a:xfrm>
            <a:off x="3352680" y="3843360"/>
            <a:ext cx="5105520" cy="239400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1"/>
          <p:cNvSpPr/>
          <p:nvPr/>
        </p:nvSpPr>
        <p:spPr>
          <a:xfrm>
            <a:off x="7162920" y="3886200"/>
            <a:ext cx="333360" cy="519120"/>
          </a:xfrm>
          <a:prstGeom prst="downArrow">
            <a:avLst>
              <a:gd name="adj1" fmla="val 50000"/>
              <a:gd name="adj2" fmla="val 38895"/>
            </a:avLst>
          </a:prstGeom>
          <a:solidFill>
            <a:srgbClr val="fa0421"/>
          </a:solidFill>
          <a:ln w="9360">
            <a:solidFill>
              <a:srgbClr val="fa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2"/>
          <p:cNvSpPr/>
          <p:nvPr/>
        </p:nvSpPr>
        <p:spPr>
          <a:xfrm>
            <a:off x="4191120" y="3962520"/>
            <a:ext cx="333360" cy="976320"/>
          </a:xfrm>
          <a:prstGeom prst="downArrow">
            <a:avLst>
              <a:gd name="adj1" fmla="val 50000"/>
              <a:gd name="adj2" fmla="val 73150"/>
            </a:avLst>
          </a:prstGeom>
          <a:solidFill>
            <a:srgbClr val="7db6ef"/>
          </a:solidFill>
          <a:ln w="9360">
            <a:solidFill>
              <a:srgbClr val="fa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3"/>
          <p:cNvSpPr txBox="1"/>
          <p:nvPr/>
        </p:nvSpPr>
        <p:spPr>
          <a:xfrm>
            <a:off x="1371600" y="228600"/>
            <a:ext cx="67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ГОРЊЕГ ДРУГОГ  ПРЕМОЛАРА</a:t>
            </a:r>
            <a:endParaRPr b="0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8,079"/>
          <p:cNvPicPr/>
          <p:nvPr/>
        </p:nvPicPr>
        <p:blipFill>
          <a:blip r:embed="rId1"/>
          <a:stretch/>
        </p:blipFill>
        <p:spPr>
          <a:xfrm>
            <a:off x="1630440" y="1625760"/>
            <a:ext cx="2862360" cy="3149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42" name="Rectangle 5"/>
          <p:cNvSpPr/>
          <p:nvPr/>
        </p:nvSpPr>
        <p:spPr>
          <a:xfrm>
            <a:off x="2867040" y="1066680"/>
            <a:ext cx="375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д 1. ОБЛИК КВР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9" descr="8,080"/>
          <p:cNvPicPr/>
          <p:nvPr/>
        </p:nvPicPr>
        <p:blipFill>
          <a:blip r:embed="rId2"/>
          <a:stretch/>
        </p:blipFill>
        <p:spPr>
          <a:xfrm>
            <a:off x="4645080" y="1598760"/>
            <a:ext cx="2919240" cy="3176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44" name="Rectangle 12"/>
          <p:cNvSpPr/>
          <p:nvPr/>
        </p:nvSpPr>
        <p:spPr>
          <a:xfrm>
            <a:off x="228600" y="513936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00000"/>
                </a:solidFill>
                <a:latin typeface="Arial"/>
                <a:ea typeface="SimSun"/>
              </a:rPr>
              <a:t>a – ЕКСТРЕМНО РАЗВИЈЕНИ СТИЛЕТ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(оклузални аспект)</a:t>
            </a:r>
            <a:r>
              <a:rPr b="1" lang="sr-Latn-CS" sz="2000" spc="-1" strike="noStrike">
                <a:solidFill>
                  <a:srgbClr val="fa0421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00"/>
                </a:solidFill>
                <a:latin typeface="Arial"/>
                <a:ea typeface="SimSun"/>
              </a:rPr>
              <a:t>б</a:t>
            </a:r>
            <a:r>
              <a:rPr b="1" lang="sr-Latn-CS" sz="2000" spc="-1" strike="noStrike">
                <a:solidFill>
                  <a:srgbClr val="00ff00"/>
                </a:solidFill>
                <a:latin typeface="Arial"/>
                <a:ea typeface="SimSun"/>
              </a:rPr>
              <a:t> – ЗАОБЉЕН ОКЛУЗАЛНИ ПРОФИЛ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SimSun"/>
              </a:rPr>
              <a:t>(букални аспе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c000"/>
                </a:solidFill>
                <a:latin typeface="Arial"/>
                <a:ea typeface="SimSun"/>
              </a:rPr>
              <a:t>ц</a:t>
            </a:r>
            <a:r>
              <a:rPr b="1" lang="sr-Latn-CS" sz="2000" spc="-1" strike="noStrike">
                <a:solidFill>
                  <a:srgbClr val="ffc000"/>
                </a:solidFill>
                <a:latin typeface="Arial"/>
                <a:ea typeface="SimSun"/>
              </a:rPr>
              <a:t> – ОШТАР (КОНИЧАН) ОКЛ</a:t>
            </a:r>
            <a:r>
              <a:rPr b="1" lang="sr-RS" sz="2000" spc="-1" strike="noStrike">
                <a:solidFill>
                  <a:srgbClr val="ffc000"/>
                </a:solidFill>
                <a:latin typeface="Arial"/>
                <a:ea typeface="SimSun"/>
              </a:rPr>
              <a:t>У</a:t>
            </a:r>
            <a:r>
              <a:rPr b="1" lang="sr-Latn-CS" sz="2000" spc="-1" strike="noStrike">
                <a:solidFill>
                  <a:srgbClr val="ffc000"/>
                </a:solidFill>
                <a:latin typeface="Arial"/>
                <a:ea typeface="SimSun"/>
              </a:rPr>
              <a:t>ЗАЛНИ  ПРОФИЛ</a:t>
            </a:r>
            <a:r>
              <a:rPr b="0" lang="sr-Latn-CS" sz="1800" spc="-1" strike="noStrike">
                <a:solidFill>
                  <a:srgbClr val="ffc000"/>
                </a:solidFill>
                <a:latin typeface="Tahoma"/>
                <a:ea typeface="SimSu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(букални асп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181476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a0421"/>
                </a:solidFill>
                <a:latin typeface="Arial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4660200" y="4343400"/>
            <a:ext cx="36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ff00"/>
                </a:solidFill>
                <a:latin typeface="Arial"/>
                <a:ea typeface="SimSu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6"/>
          <p:cNvSpPr/>
          <p:nvPr/>
        </p:nvSpPr>
        <p:spPr>
          <a:xfrm>
            <a:off x="6096600" y="4343400"/>
            <a:ext cx="36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SimSu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13"/>
          <p:cNvSpPr txBox="1"/>
          <p:nvPr/>
        </p:nvSpPr>
        <p:spPr>
          <a:xfrm>
            <a:off x="1066680" y="228600"/>
            <a:ext cx="678204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ГОРЊЕГ ДРУГОГ  ПРЕМОЛАРА</a:t>
            </a:r>
            <a:endParaRPr b="0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"/>
          <p:cNvSpPr/>
          <p:nvPr/>
        </p:nvSpPr>
        <p:spPr>
          <a:xfrm>
            <a:off x="2438280" y="914400"/>
            <a:ext cx="386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д2.  ДОПУНСКИ ГРБЕН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8,081"/>
          <p:cNvPicPr/>
          <p:nvPr/>
        </p:nvPicPr>
        <p:blipFill>
          <a:blip r:embed="rId1"/>
          <a:stretch/>
        </p:blipFill>
        <p:spPr>
          <a:xfrm>
            <a:off x="1254240" y="1447920"/>
            <a:ext cx="6208560" cy="3886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51" name="Rectangle 9"/>
          <p:cNvSpPr/>
          <p:nvPr/>
        </p:nvSpPr>
        <p:spPr>
          <a:xfrm>
            <a:off x="457200" y="5490360"/>
            <a:ext cx="8501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  <a:ea typeface="SimSun"/>
              </a:rPr>
              <a:t>ВАРИЈАЦИЈЕ ДИСТАЛНОГ ТРАНСВЕРЗАЛНОГ ГРЕБЕНА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(a и </a:t>
            </a: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б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) </a:t>
            </a:r>
            <a:br>
              <a:rPr sz="1800"/>
            </a:b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представља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допунски гребен између триангуларног квржичног гребена и унутрашње падине дисталног маргиналног греб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762120" y="48769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7543800" y="4800600"/>
            <a:ext cx="358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SimSu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3"/>
          <p:cNvSpPr/>
          <p:nvPr/>
        </p:nvSpPr>
        <p:spPr>
          <a:xfrm>
            <a:off x="3124080" y="3581280"/>
            <a:ext cx="1067040" cy="333360"/>
          </a:xfrm>
          <a:prstGeom prst="leftArrow">
            <a:avLst>
              <a:gd name="adj1" fmla="val 50000"/>
              <a:gd name="adj2" fmla="val 80022"/>
            </a:avLst>
          </a:prstGeom>
          <a:solidFill>
            <a:srgbClr val="fa0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 rot="20781000">
            <a:off x="6391080" y="3206880"/>
            <a:ext cx="1000080" cy="409320"/>
          </a:xfrm>
          <a:prstGeom prst="leftArrow">
            <a:avLst>
              <a:gd name="adj1" fmla="val 50000"/>
              <a:gd name="adj2" fmla="val 61025"/>
            </a:avLst>
          </a:prstGeom>
          <a:solidFill>
            <a:srgbClr val="fa0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15"/>
          <p:cNvSpPr txBox="1"/>
          <p:nvPr/>
        </p:nvSpPr>
        <p:spPr>
          <a:xfrm>
            <a:off x="1143000" y="152280"/>
            <a:ext cx="640080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ГОРЊЕГ ДРУГОГ ПРЕМОЛАРА</a:t>
            </a:r>
            <a:endParaRPr b="0" lang="en-US" sz="32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5"/>
          <p:cNvSpPr/>
          <p:nvPr/>
        </p:nvSpPr>
        <p:spPr>
          <a:xfrm>
            <a:off x="1600200" y="762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SimSun"/>
              </a:rPr>
              <a:t>Aд 3. МАРГИНАЛНИ ГРЕБАН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8,082"/>
          <p:cNvPicPr/>
          <p:nvPr/>
        </p:nvPicPr>
        <p:blipFill>
          <a:blip r:embed="rId1"/>
          <a:stretch/>
        </p:blipFill>
        <p:spPr>
          <a:xfrm>
            <a:off x="5545080" y="1828800"/>
            <a:ext cx="2532240" cy="4724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59" name="Rectangle 9"/>
          <p:cNvSpPr/>
          <p:nvPr/>
        </p:nvSpPr>
        <p:spPr>
          <a:xfrm>
            <a:off x="762120" y="404208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ПРИСУТНА </a:t>
            </a:r>
            <a:r>
              <a:rPr b="1" i="1" lang="sr-Latn-CS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ПОМОЋНА КВРЖ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НА МЕЗИЈАЛНОМ МАРГИНАЛНОМ ГРЕБ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6629400" y="60199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13"/>
          <p:cNvSpPr txBox="1"/>
          <p:nvPr/>
        </p:nvSpPr>
        <p:spPr>
          <a:xfrm>
            <a:off x="1066680" y="228600"/>
            <a:ext cx="678204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ГОРЊЕГ ДРУГОГ  ПРЕМОЛАРА</a:t>
            </a:r>
            <a:endParaRPr b="0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2199240" y="106668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AД 4. ИРЕГУЛАРНИ ФИСУРНИ КОМПЛЕКС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8,083"/>
          <p:cNvPicPr/>
          <p:nvPr/>
        </p:nvPicPr>
        <p:blipFill>
          <a:blip r:embed="rId1"/>
          <a:stretch/>
        </p:blipFill>
        <p:spPr>
          <a:xfrm>
            <a:off x="455760" y="1976400"/>
            <a:ext cx="8226360" cy="3227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4" name="Rectangle 9"/>
          <p:cNvSpPr/>
          <p:nvPr/>
        </p:nvSpPr>
        <p:spPr>
          <a:xfrm>
            <a:off x="304920" y="5370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a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– ОДСУТНА ЦЕНТРАЛНА БРАЗДА И ПРОКСИМАЛНЕ ФОСУЛЕ СА ДУБОКОМ ЦЕНТРАЛНОМ ЈАМОМ </a:t>
            </a:r>
            <a:r>
              <a:rPr b="0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и ДОПУНСКИМ БРАЗДАМА (Х)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.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b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c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– ИРЕГУЛАРАН ОБРАЗАЦ СУПЛЕМЕНТАРНИХ БРА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0"/>
          <p:cNvSpPr/>
          <p:nvPr/>
        </p:nvSpPr>
        <p:spPr>
          <a:xfrm>
            <a:off x="1676520" y="2743200"/>
            <a:ext cx="409320" cy="747720"/>
          </a:xfrm>
          <a:prstGeom prst="downArrow">
            <a:avLst>
              <a:gd name="adj1" fmla="val 50000"/>
              <a:gd name="adj2" fmla="val 45626"/>
            </a:avLst>
          </a:prstGeom>
          <a:solidFill>
            <a:srgbClr val="fa0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WordArt 13"/>
          <p:cNvSpPr txBox="1"/>
          <p:nvPr/>
        </p:nvSpPr>
        <p:spPr>
          <a:xfrm>
            <a:off x="1066680" y="228600"/>
            <a:ext cx="678204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ГОРЊЕГ ДРУГОГ  ПРЕМОЛАРА</a:t>
            </a:r>
            <a:endParaRPr b="0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297360" y="99072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Aд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. ИРЕГУЛАРНОСТ КО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8,084"/>
          <p:cNvPicPr/>
          <p:nvPr/>
        </p:nvPicPr>
        <p:blipFill>
          <a:blip r:embed="rId1"/>
          <a:stretch/>
        </p:blipFill>
        <p:spPr>
          <a:xfrm>
            <a:off x="3406680" y="1598760"/>
            <a:ext cx="2322720" cy="4039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9" name="Rectangle 9"/>
          <p:cNvSpPr/>
          <p:nvPr/>
        </p:nvSpPr>
        <p:spPr>
          <a:xfrm>
            <a:off x="4391280" y="122004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ИРЕГУЛАРНА ИНКЛИНАЦИЈА КОР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13"/>
          <p:cNvSpPr txBox="1"/>
          <p:nvPr/>
        </p:nvSpPr>
        <p:spPr>
          <a:xfrm>
            <a:off x="1143000" y="304920"/>
            <a:ext cx="67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ВАРИЈАЦИЈЕ ГОРЊЕГ ДРУГОГ  ПРЕМОЛАРА</a:t>
            </a:r>
            <a:endParaRPr b="0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304920" y="5716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Aд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5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. ИЗГЛЕД КРУНЕ СА БУКАЛНОГ АСПЕКТА:  значајно варира знак угла и лу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1814400" y="4680"/>
            <a:ext cx="55152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492800" y="685800"/>
            <a:ext cx="4651200" cy="6172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54" name="Text Box 4"/>
          <p:cNvSpPr/>
          <p:nvPr/>
        </p:nvSpPr>
        <p:spPr>
          <a:xfrm>
            <a:off x="4495680" y="762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a0421"/>
                </a:solidFill>
                <a:latin typeface="Arial"/>
                <a:ea typeface="SimSu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696080" y="762120"/>
            <a:ext cx="3812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a0421"/>
                </a:solidFill>
                <a:latin typeface="Arial"/>
                <a:ea typeface="SimSu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486400" y="3200400"/>
            <a:ext cx="30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a0421"/>
                </a:solidFill>
                <a:latin typeface="Arial"/>
                <a:ea typeface="SimSu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7848720" y="3276720"/>
            <a:ext cx="304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a0421"/>
                </a:solidFill>
                <a:latin typeface="Arial"/>
                <a:ea typeface="SimSu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76920" y="63388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66"/>
                </a:solidFill>
                <a:latin typeface="Arial"/>
                <a:ea typeface="SimSu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6705720" y="6324480"/>
            <a:ext cx="38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66"/>
                </a:solidFill>
                <a:latin typeface="Arial"/>
                <a:ea typeface="SimSu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228600" y="1828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287280" y="914400"/>
            <a:ext cx="4572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ОПШТЕ КАРАКТЕРИСТИКЕ</a:t>
            </a:r>
            <a:r>
              <a:rPr b="1" lang="sr-RS" sz="1800" spc="-1" strike="noStrike">
                <a:solidFill>
                  <a:srgbClr val="000000"/>
                </a:solidFill>
                <a:latin typeface="Tahoma"/>
                <a:ea typeface="SimSu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Положај у луку  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-4 од медијалне лин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- мезијално контактира најпре са млечни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а потом са сталним очња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- дистално контакнајпре са 2. млечним</a:t>
            </a:r>
            <a:br>
              <a:rPr sz="1400"/>
            </a:b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  моларом, а потом са 2. премола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Номенклатура</a:t>
            </a:r>
            <a:r>
              <a:rPr b="1" i="1" lang="sr-Latn-CS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i="1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Општи облик и функција</a:t>
            </a:r>
            <a:r>
              <a:rPr b="1" i="1" lang="sr-Latn-CS" sz="14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</a:t>
            </a: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- Букални аспект:  петоугао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</a:t>
            </a: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-</a:t>
            </a:r>
            <a:r>
              <a:rPr b="0" lang="sr-Latn-CS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Мезијална и дистална површина имају облик</a:t>
            </a: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 трапеза</a:t>
            </a: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- Оклузални аспект  је шестоугаони</a:t>
            </a: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Tahoma"/>
                <a:ea typeface="SimSun"/>
              </a:rPr>
              <a:t>     - Млевење хране, естетика и фонац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ОБРНУТ ЗНАК УГЛА И ЛУКА И    ДИСТАЛНИ НАГИБ КО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ОБРАЗУЈЕ  ОКЛУЗАЛНУ ЈЕДИНИЦУ СА ДОЊИМ </a:t>
            </a:r>
            <a:r>
              <a:rPr b="1" lang="sr-Latn-CS" sz="1800" spc="-1" strike="noStrike">
                <a:solidFill>
                  <a:srgbClr val="629be6"/>
                </a:solidFill>
                <a:latin typeface="Tahoma"/>
                <a:ea typeface="SimSun"/>
              </a:rPr>
              <a:t>I </a:t>
            </a: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И</a:t>
            </a:r>
            <a:r>
              <a:rPr b="1" lang="sr-Latn-CS" sz="1800" spc="-1" strike="noStrike">
                <a:solidFill>
                  <a:srgbClr val="629be6"/>
                </a:solidFill>
                <a:latin typeface="Tahoma"/>
                <a:ea typeface="SimSun"/>
              </a:rPr>
              <a:t> II </a:t>
            </a:r>
            <a:r>
              <a:rPr b="1" lang="sr-RS" sz="1800" spc="-1" strike="noStrike">
                <a:solidFill>
                  <a:srgbClr val="629be6"/>
                </a:solidFill>
                <a:latin typeface="Tahoma"/>
                <a:ea typeface="SimSun"/>
              </a:rPr>
              <a:t>ПРЕМОЛ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14"/>
          <p:cNvSpPr txBox="1"/>
          <p:nvPr/>
        </p:nvSpPr>
        <p:spPr>
          <a:xfrm>
            <a:off x="1676520" y="0"/>
            <a:ext cx="6172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  </a:t>
            </a:r>
            <a:r>
              <a:rPr b="1" lang="en-US" sz="1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   </a:t>
            </a:r>
            <a:endParaRPr b="1" lang="en-US" sz="1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30640" y="60948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Dens praemolaris primus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533520" y="299556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1e63bd"/>
                </a:solidFill>
                <a:latin typeface="Arial"/>
                <a:ea typeface="SimSun"/>
              </a:rPr>
              <a:t>* стални горњи десни први премолар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1e63bd"/>
                </a:solidFill>
                <a:latin typeface="Arial"/>
                <a:ea typeface="SimSun"/>
              </a:rPr>
              <a:t>* стални горњи леви први премолар:   </a:t>
            </a:r>
            <a:r>
              <a:rPr b="1" lang="sr-Latn-CS" sz="1400" spc="-1" strike="noStrike">
                <a:solidFill>
                  <a:srgbClr val="1e63bd"/>
                </a:solidFill>
                <a:latin typeface="Arial"/>
                <a:ea typeface="SimSun"/>
              </a:rPr>
              <a:t>2</a:t>
            </a:r>
            <a:r>
              <a:rPr b="1" lang="sr-RS" sz="1400" spc="-1" strike="noStrike">
                <a:solidFill>
                  <a:srgbClr val="1e63bd"/>
                </a:solidFill>
                <a:latin typeface="Arial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http://www.dental-marcan.hr/wp-content/uploads/2020/12/zubi-usne-800x340-750x340.jpg"/>
          <p:cNvPicPr/>
          <p:nvPr/>
        </p:nvPicPr>
        <p:blipFill>
          <a:blip r:embed="rId1"/>
          <a:srcRect l="0" t="0" r="49607" b="0"/>
          <a:stretch/>
        </p:blipFill>
        <p:spPr>
          <a:xfrm>
            <a:off x="3276720" y="1844640"/>
            <a:ext cx="359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216000" y="838080"/>
            <a:ext cx="624816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ТАБЕЛА РАЗВОЈА ГОЊЕГ ПРВОГ ПРЕМОЛ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Почетак калцификације                </a:t>
            </a: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1,5 – 2. 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00"/>
                </a:solidFill>
                <a:latin typeface="Arial"/>
                <a:ea typeface="SimSun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Комплетно формирана круна    </a:t>
            </a: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  5  –   6. 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Ерупција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</a:t>
            </a: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10 – 11. 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SimSun"/>
              </a:rPr>
              <a:t>Завешен раст корена                   </a:t>
            </a:r>
            <a:r>
              <a:rPr b="1" lang="sr-Latn-CS" sz="1400" spc="-1" strike="noStrike">
                <a:solidFill>
                  <a:srgbClr val="629be6"/>
                </a:solidFill>
                <a:latin typeface="Arial"/>
                <a:ea typeface="SimSun"/>
              </a:rPr>
              <a:t> 12 -  13. 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ДИМЕНЗИЈЕ ГОЊЕГ ПРВОГ ПРЕМОЛ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АСПЕК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КОРЕН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SimSu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1"/>
          <a:stretch/>
        </p:blipFill>
        <p:spPr>
          <a:xfrm>
            <a:off x="5124600" y="1523880"/>
            <a:ext cx="4019400" cy="5334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69" name="WordArt 8"/>
          <p:cNvSpPr txBox="1"/>
          <p:nvPr/>
        </p:nvSpPr>
        <p:spPr>
          <a:xfrm>
            <a:off x="2057400" y="152280"/>
            <a:ext cx="5029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524376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7224480" y="1789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600588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798660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a0421"/>
                </a:solidFill>
                <a:latin typeface="Arial"/>
                <a:ea typeface="SimSu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622840" y="64371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1814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66"/>
                </a:solidFill>
                <a:latin typeface="Arial"/>
                <a:ea typeface="SimSu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470560" y="643716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070760" y="6437160"/>
            <a:ext cx="32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66"/>
                </a:solidFill>
                <a:latin typeface="Arial"/>
                <a:ea typeface="SimSu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04920" y="3014640"/>
          <a:ext cx="4038480" cy="2711520"/>
        </p:xfrm>
        <a:graphic>
          <a:graphicData uri="http://schemas.openxmlformats.org/drawingml/2006/table">
            <a:tbl>
              <a:tblPr/>
              <a:tblGrid>
                <a:gridCol w="2719440"/>
                <a:gridCol w="1319040"/>
              </a:tblGrid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зиодистална 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копалатинал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сина кру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ужина кор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упна дуж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29be6"/>
                </a:solidFill>
                <a:latin typeface="Arial"/>
              </a:rPr>
              <a:t>Опште карактеристике првог и другог премола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981080"/>
          <a:ext cx="8458200" cy="432144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61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леж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рњи ПРВИ премо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рњи ДРУГИ прмо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личина кру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ближно исте велич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знатно м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ура кру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бо заоб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 целости заоб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сина кврж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КАЛНА КРВЖИЦА  (БК) ВИША ОД ПАЛАТИНАЛНЕ (П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К НЕЗНАТНО ВИША ОД 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зијални конкавитет и мезиомаргинална браз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бро израж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су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ој коре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е коренске гр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један кор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ура С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ексагона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а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ура УО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пе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оугао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620640"/>
            <a:ext cx="558000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БУКАЛНИ АСПЕКТ </a:t>
            </a:r>
            <a:r>
              <a:rPr b="0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петоугао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1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Мезијални профил: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обрнути знак угла,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висина контуре спој оклузалне и средње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трећине, конкаван у цервикалном смеру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2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Дистални профил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: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дисто-олузални угао је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оштрији, а цервикални конкавитет слабије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изражен;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висина контуре спој оклузалне и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средње трећ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3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Оклузални профил: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доминира врх букалне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квржице на коме се проксимални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кр.гребени спајају под правим угл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М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езијални к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в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р.гребен је дужи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и блаже нагнут ка мезио-оклуз. углу у односу на дистални (врх померен дисталн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Еминенције (Стилети) премол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Развојне депреси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(усеци)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на квр. гребену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rcRect l="0" t="0" r="49623" b="65135"/>
          <a:stretch/>
        </p:blipFill>
        <p:spPr>
          <a:xfrm>
            <a:off x="6012000" y="1989000"/>
            <a:ext cx="2617560" cy="2403720"/>
          </a:xfrm>
          <a:prstGeom prst="rect">
            <a:avLst/>
          </a:prstGeom>
          <a:ln w="0">
            <a:noFill/>
          </a:ln>
        </p:spPr>
      </p:pic>
      <p:sp>
        <p:nvSpPr>
          <p:cNvPr id="284" name="WordArt 8"/>
          <p:cNvSpPr txBox="1"/>
          <p:nvPr/>
        </p:nvSpPr>
        <p:spPr>
          <a:xfrm>
            <a:off x="5105520" y="22860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5945040" y="206064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  <a:ea typeface="SimSun"/>
              </a:rPr>
              <a:t>горњи ле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нск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620640"/>
            <a:ext cx="510552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629be6"/>
                </a:solidFill>
                <a:latin typeface="Arial"/>
                <a:ea typeface="SimSun"/>
              </a:rPr>
              <a:t>     </a:t>
            </a:r>
            <a:r>
              <a:rPr b="1" lang="sr-Latn-CS" sz="1800" spc="-1" strike="noStrike" u="sng">
                <a:solidFill>
                  <a:srgbClr val="629be6"/>
                </a:solidFill>
                <a:uFillTx/>
                <a:latin typeface="Arial"/>
                <a:ea typeface="SimSun"/>
              </a:rPr>
              <a:t>БУКАЛНИ АСПЕКТ </a:t>
            </a:r>
            <a:r>
              <a:rPr b="0" lang="sr-Latn-CS" sz="1800" spc="-1" strike="noStrike">
                <a:solidFill>
                  <a:srgbClr val="629be6"/>
                </a:solidFill>
                <a:latin typeface="Arial"/>
                <a:ea typeface="SimSu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SimSun"/>
              </a:rPr>
              <a:t>петоугао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4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Цервикална линија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конвекситет према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апексу, али мањи него код предњих зу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      </a:t>
            </a:r>
            <a:r>
              <a:rPr b="1" lang="sr-RS" sz="1600" spc="-1" strike="noStrike">
                <a:solidFill>
                  <a:srgbClr val="629be6"/>
                </a:solidFill>
                <a:latin typeface="Arial"/>
                <a:ea typeface="SimSun"/>
              </a:rPr>
              <a:t>5. </a:t>
            </a:r>
            <a:r>
              <a:rPr b="1" lang="sr-Latn-CS" sz="1600" spc="-1" strike="noStrike">
                <a:solidFill>
                  <a:srgbClr val="629be6"/>
                </a:solidFill>
                <a:latin typeface="Arial"/>
                <a:ea typeface="SimSun"/>
              </a:rPr>
              <a:t>Остал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:  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букални квржични гребен иде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д врха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квржице у цервикалном смеру и губи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се у средини. 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б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очно од њега су развојне депресије: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мезиобукална и дистобукална. 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Ове депресије деле спољашње оклуз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поље букалне површине на вертикалне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трећине које одговарају букалним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лобус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Корен:</a:t>
            </a:r>
            <a:br>
              <a:rPr sz="1600"/>
            </a:b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- коничан сличан горњем очња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SimSun"/>
              </a:rPr>
              <a:t>- дистални нагиб корена и обрнут знак уг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1"/>
          <a:srcRect l="0" t="0" r="49623" b="65135"/>
          <a:stretch/>
        </p:blipFill>
        <p:spPr>
          <a:xfrm>
            <a:off x="6012000" y="1989000"/>
            <a:ext cx="2617560" cy="2403720"/>
          </a:xfrm>
          <a:prstGeom prst="rect">
            <a:avLst/>
          </a:prstGeom>
          <a:ln w="0">
            <a:noFill/>
          </a:ln>
        </p:spPr>
      </p:pic>
      <p:sp>
        <p:nvSpPr>
          <p:cNvPr id="289" name="WordArt 8"/>
          <p:cNvSpPr txBox="1"/>
          <p:nvPr/>
        </p:nvSpPr>
        <p:spPr>
          <a:xfrm>
            <a:off x="5105520" y="228600"/>
            <a:ext cx="40384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29be6"/>
                </a:solidFill>
                <a:latin typeface="Impact"/>
              </a:rPr>
              <a:t>ГОРЊИ  ПРВИ  ПРЕМОЛАР</a:t>
            </a:r>
            <a:endParaRPr b="1" lang="en-US" sz="2800" spc="1" strike="noStrike">
              <a:ln w="0">
                <a:noFill/>
              </a:ln>
              <a:solidFill>
                <a:srgbClr val="629be6"/>
              </a:solidFill>
              <a:latin typeface="Impact"/>
              <a:ea typeface="Impact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5945040" y="206064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  <a:ea typeface="SimSun"/>
              </a:rPr>
              <a:t>горњи ле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1:08:00Z</dcterms:created>
  <dc:creator>Vista</dc:creator>
  <dc:description/>
  <cp:keywords/>
  <dc:language>en-US</dc:language>
  <cp:lastModifiedBy>Win10</cp:lastModifiedBy>
  <dcterms:modified xsi:type="dcterms:W3CDTF">2020-12-17T06:05:32Z</dcterms:modified>
  <cp:revision>2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783</vt:lpwstr>
  </property>
</Properties>
</file>